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472-BD44-4CDD-BDE3-A3F1C8E1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C24-7EC6-4A11-BBA8-62FE251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1D3-E053-462A-801C-16AE94EF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724-FB60-411C-9710-0CCAAF73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CCC-0DA7-4681-AB80-1B3028E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4F-8937-4B30-9284-05946A3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4AC-039C-4444-B10A-C8B6E16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74B-C9CD-488D-9B79-B1E06305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C3B-0A11-4F53-A552-B97CAF27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92C-5DE1-444E-BA95-735CEE0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A8A-2433-4657-ABF9-A9D1352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F18-017A-426A-843A-64397F8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570-3135-4FD6-BBA0-D8248880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th Korean nuclear th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ke Crem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ke Block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Korea acquired nuclear weapons in 195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eader is Kim Jong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Korea dropped out of the U.N on may 16,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n 1959, North Korea and the Soviet Union signed a treaty on the use of nuclear energy that included a provision for the Soviet Union to create nuclear factories in North Ko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8880" y="3962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 is located just below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threatening neighboring countries with nuclear war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laim to have nuclear weapon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ested two nuclear weapons and are trying to test a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uranium with the estimated four million tons of exploitable   high-quality uranium o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solv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Go to w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38:28Z</dcterms:created>
  <dc:creator>ws13149</dc:creator>
  <dc:description/>
  <dc:language>en-US</dc:language>
  <cp:lastModifiedBy>ws13127</cp:lastModifiedBy>
  <dcterms:modified xsi:type="dcterms:W3CDTF">2010-05-21T13:42:33Z</dcterms:modified>
  <cp:revision>12</cp:revision>
  <dc:subject/>
  <dc:title>North Korean nuclear threat</dc:title>
</cp:coreProperties>
</file>